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235-202B-4CCB-A8F1-E492387C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7337-1D87-4136-B3F2-0DA9511E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E20-CFF4-42C7-8A78-7320D7DF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54E3-AAF3-4EC6-99C9-9A25E247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ABF7-3324-43BF-ABE0-E2992820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9D7C-A1C1-4CB9-9B5E-5EC665D1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DA5E-BEE8-4D8A-A6CA-37D3C467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C956-8BF2-4EBB-82CC-F3629CC7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BF79-2D30-406B-890F-332B12D2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4E85-BAFF-4BF5-A759-E7A7C8A4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3AD5-E6FE-4071-946D-ED89A079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0D9-0F4F-497B-A044-D8EE8543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440E-9297-4E67-83D5-5A1FBE4D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C835-FF21-4A8A-A18C-1F2D164E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D2EA-6786-432D-BEB6-FF7374C8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99D8-9DE8-4B57-B26C-CB6F0218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8F40-CA78-450B-9C04-DF0A6480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72E-5E0E-4B46-BD52-941F92E3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A7A-B725-4177-BFBE-13AAA73F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992-5DD9-49C7-A7D5-92FD2BED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BE7-8EC3-4A6C-9736-727CECC6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8097-4386-417C-9A5A-7265B247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0D2-B004-4A42-B010-EE5B8F82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168-C624-44E1-948D-080711E4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67DC-6E87-4DC4-99F4-403681328F2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7773-44CC-4B1D-8065-DBB829E7DA8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apter 5:  Industrializ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5.  Inventions Promoting Change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.Telephone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exander Graham Be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day’s AT&amp;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1" name="Picture 6" descr="wuphone.jpg (52312 bytes)"/>
          <p:cNvPicPr/>
          <p:nvPr/>
        </p:nvPicPr>
        <p:blipFill>
          <a:blip r:embed="rId1"/>
          <a:stretch/>
        </p:blipFill>
        <p:spPr>
          <a:xfrm>
            <a:off x="5334120" y="3581280"/>
            <a:ext cx="3017880" cy="304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patent3"/>
          <p:cNvPicPr/>
          <p:nvPr/>
        </p:nvPicPr>
        <p:blipFill>
          <a:blip r:embed="rId2"/>
          <a:stretch/>
        </p:blipFill>
        <p:spPr>
          <a:xfrm>
            <a:off x="5334120" y="1371600"/>
            <a:ext cx="31050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6.  Electricit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omas Edison: perfects the light bulb, NOT the inventor; phonograph and electric generato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oth Edison and Westinghouse develop technique for </a:t>
            </a: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transporting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electric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Picture 7" descr="Thomas Edison's Electric Lamp Patent Drawing and Claim [Incandescent Light Bulb]"/>
          <p:cNvPicPr/>
          <p:nvPr/>
        </p:nvPicPr>
        <p:blipFill>
          <a:blip r:embed="rId1"/>
          <a:stretch/>
        </p:blipFill>
        <p:spPr>
          <a:xfrm>
            <a:off x="5181480" y="16002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.  Impact of Techn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 food due to refrigeration; lasts long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brics made in factories =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othes standardized = no more sewing at home; same w/sh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legraph across Atlantic ocean = improved communi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cientific management-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reaking down tasks into small parts; standardizing (snowman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.  Free Enterpri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Laissez-fair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gov’t does not interfere in economic decisions; protects private proper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 market – supply and demand- and low taxes; competition/capitalis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trepreneurs (businessman) increased; invested in U.S. indust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ew taxes and regulation =increase economic grow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Tariff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fees imposed on imported goods; protect American business owners from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Unit Essential Ques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How did the Industrial Revolution change life for American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How did America become an industrial world leader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The Rise of Indust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 Four main factors which contributed 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uccess of industrializ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 Natural resour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.  A large population to support market for new products = workfor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.  Explosion of inven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.  Free Enterpri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2.  Plenty of Natural Resource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.  Coal, Iron ore, oil, timb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.  stateside/inexpens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.  Drawback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Picture 5" descr="619&lt;b&gt;oil&lt;/b&gt;_and_gas_well_at_sunset6.jpg"/>
          <p:cNvPicPr/>
          <p:nvPr/>
        </p:nvPicPr>
        <p:blipFill>
          <a:blip r:embed="rId1"/>
          <a:stretch/>
        </p:blipFill>
        <p:spPr>
          <a:xfrm>
            <a:off x="6781680" y="3657600"/>
            <a:ext cx="1992600" cy="297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BL00381_"/>
          <p:cNvPicPr/>
          <p:nvPr/>
        </p:nvPicPr>
        <p:blipFill>
          <a:blip r:embed="rId2"/>
          <a:stretch/>
        </p:blipFill>
        <p:spPr>
          <a:xfrm>
            <a:off x="5470560" y="1447920"/>
            <a:ext cx="3673440" cy="2054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IN00483_"/>
          <p:cNvPicPr/>
          <p:nvPr/>
        </p:nvPicPr>
        <p:blipFill>
          <a:blip r:embed="rId3"/>
          <a:stretch/>
        </p:blipFill>
        <p:spPr>
          <a:xfrm>
            <a:off x="4038480" y="3657600"/>
            <a:ext cx="2057400" cy="2044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&lt;b&gt;Coal&lt;/b&gt; Traini.jpg"/>
          <p:cNvPicPr/>
          <p:nvPr/>
        </p:nvPicPr>
        <p:blipFill>
          <a:blip r:embed="rId4"/>
          <a:stretch/>
        </p:blipFill>
        <p:spPr>
          <a:xfrm>
            <a:off x="1676520" y="3848040"/>
            <a:ext cx="20066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3.  Black G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il discovered in Tex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dward Drake develops easy system to drill for o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in u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erose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asoline not in demand until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" name="Picture 7" descr="Swiss kerosene lamp.  The knob protruding to the right adjusts the wick, and hence the flame size."/>
          <p:cNvPicPr/>
          <p:nvPr/>
        </p:nvPicPr>
        <p:blipFill>
          <a:blip r:embed="rId1"/>
          <a:stretch/>
        </p:blipFill>
        <p:spPr>
          <a:xfrm>
            <a:off x="5334120" y="1676520"/>
            <a:ext cx="23270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1896HenryFordsFirstCar"/>
          <p:cNvPicPr/>
          <p:nvPr/>
        </p:nvPicPr>
        <p:blipFill>
          <a:blip r:embed="rId1"/>
          <a:stretch/>
        </p:blipFill>
        <p:spPr>
          <a:xfrm>
            <a:off x="1676520" y="1295280"/>
            <a:ext cx="6721200" cy="5064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enry Ford’s First Aut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enry Ford’s Model 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5160" y="18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2" name="Picture 5" descr="model-t"/>
          <p:cNvPicPr/>
          <p:nvPr/>
        </p:nvPicPr>
        <p:blipFill>
          <a:blip r:embed="rId1"/>
          <a:stretch/>
        </p:blipFill>
        <p:spPr>
          <a:xfrm>
            <a:off x="2057400" y="1600200"/>
            <a:ext cx="59562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del 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6600" y="156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5" name="Picture 5" descr="model-a"/>
          <p:cNvPicPr/>
          <p:nvPr/>
        </p:nvPicPr>
        <p:blipFill>
          <a:blip r:embed="rId1"/>
          <a:stretch/>
        </p:blipFill>
        <p:spPr>
          <a:xfrm>
            <a:off x="2438280" y="1523880"/>
            <a:ext cx="541044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4.  Large Work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pulation triples 1860-19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rge families, better standard of liv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igration: religious and political persecution in homelan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reases consumer goo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10-06T18:21:14Z</dcterms:modified>
  <cp:revision>19</cp:revision>
  <dc:subject/>
  <dc:title>PowerPoint Presentation</dc:title>
</cp:coreProperties>
</file>